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A4CD-5CBD-4040-A941-16009AAF9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7D15-7F5F-4811-B4FD-2B5DCDF08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FD5D-ABFD-4845-BD0F-7AAEBCDFD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1D3B-9690-4489-BB8F-697F9B066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8918-7959-4368-8B73-478AA574C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0BD1-5EA8-412D-8D89-BCD4F353A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55AB-B907-476A-8680-DAB4B4F79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B3F1-B87B-47FD-9AC4-4EDEF4593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FEA8-2E60-424F-9513-3F0B73E2F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6D48-A666-4266-81A5-E11CFDF6B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2DC6-36CF-407F-AB86-5E5D1FCCA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6E5B-EECD-497C-9478-4BE169BA2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AE37-63B3-4E2C-AE7D-D4EBBB7FF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2708-E705-4C5E-AA9C-6B19CC38C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7CA-B68A-4D5F-A5AF-B977CD6B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3D5-12EC-4AA5-A93A-242B1C2C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A22-8109-4450-836E-64F9313E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521-7563-4D2C-A62A-6E640524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268A-A0C8-4C6A-A98F-FA2975D9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7DEA-B76D-4DEF-B35E-E6305E2E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9EB4-AB66-43C4-902F-74DFB77A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7B46-FE45-4F93-B914-292AC2E7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AC53-7AC6-46EE-8CD6-E53934B3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E776-9E56-4B74-B6B7-E6B6E628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507B-4AEF-4AD1-8667-B3E09A75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B73-584A-4C12-913C-0BD183C4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51F6-6419-498E-A1ED-57AADAAC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D5D9-0175-4E71-AFE4-8CBDEFAB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1534-4B9A-47F0-89DE-18C0A56A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87E8-2FD5-4796-AF3F-61C5661C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5869-0A5E-44B7-B331-11CDE4B2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F6D-B7FB-434D-8B5A-B48F3548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559-513E-48E5-B1AA-E07999C7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F34-CD41-4028-B3C8-070CF8FE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CE6-A27D-4C96-A942-6426F19A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92C-BBD1-49A1-8CA1-A5C8F5F1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0E2-086D-4696-8BE7-1ABEA1D8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58A-0994-465F-8E9E-7825EDFC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4238-1CF4-4A3C-A506-728F86177C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7E67-048F-4D54-A988-89897D06BD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3schools.com/php/" TargetMode="External"/><Relationship Id="rId2" Type="http://schemas.openxmlformats.org/officeDocument/2006/relationships/hyperlink" Target="http://www.php.net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pics Cover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r side web program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ser/Server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ison with static 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P - what is it? What does it 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P Language bas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s, Constants, Ope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P and the brow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Example Scrip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?ph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uthor = “Kris Secor”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msg = “Hello world!”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ho $author . “ says ” . $msg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Consta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nts are special variables that cannot be chan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m for named items that will not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d using a define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(‘milestokm’, 1.6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without $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km = 5 * milestokm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Opera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 mathematical opera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, -, *, / and % (modul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ing concatenation with a period (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car = “SEAT” . “ Altea”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ho $car; would output “SEAT Alte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ic Boolean comparison with “==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only = will overwrite a variable 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han &lt; and greater than 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= and &gt;= as above but include e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Data Typ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P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rictly ty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to JAVA where all variables are decl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ata type is either text or nume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P decides what type a variabl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P can use variables in an appropriate way automat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vat_rate = 0.175; /* VAT Rate is numeric 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ho $vat_rate * 100 . “%”; //outputs “17.5%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vat_rate is converted to a string for the purpose of the echo sta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embedded langu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P can be placed directly inside HTML E.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ead&gt;&lt;title&gt;Basic PHP page&lt;/title&gt;&lt;/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1&gt;&lt;?php echo “Hello World!; ?&gt;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cision Making - Bas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ision making involves evaluating Boolean expressions (true / fal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($catishungry) { /* feed cat */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ue” and “false” are reserved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itial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s $valid = fals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 with == or ==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and OR for combin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 if($catishungry AND $havefood) {/* feed cat*/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one small step for man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giant leap for beginning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few steps are crucial - topics cover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structure and synt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s, constants and ope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questions so f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Dealing with the brows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very nice but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is it useful in your web si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P allows you to use HTML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s require technology at the server to process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P is a feasible and good choice for the processing of HTML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Dealing with the brows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153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ick re-cap on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emented with a &lt;form&gt; element in 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ins other input, text area, list controls and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s some method of submit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</a:t>
            </a:r>
            <a:r>
              <a:rPr b="1" lang="mr-IN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Revieiwing 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 fie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 but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box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dden form fie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word 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mit and reset butt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Server on the WW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sites generally operate on a request/response ba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user requests a resource E.g. HTML doc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r responds by delivering the document to the brow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rowser processes the document and displays it to u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Dealing with the brows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form method=“post” action=“file.php” name=“frmid” 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specifies how the data will be s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 specifies the file to go to. E.g. file.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 gives the form a unique 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 method sends all contents of a form with basically hidden headers (not easily visible to us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method sends all form input in the URL requested using name=value pairs separated by ampersands (&amp;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process.php?name=trevor&amp;number=3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visible in the URL shown in the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Dealing with the brows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form values are placed into an arr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 a form contains one textbox called “txtName” and the form is submitted using the post method, invoking process.ph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.php could access the form data us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_POST[‘txtName’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form used the get method, the form data would be available 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_GET[‘txtName’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Dealing with the brows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an HTML for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form id=“showmsg” action=“show.php” method=“post”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input type=“text” id=“txtMsg” value=“Hello World” /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input type=“submit” id=“submit” value=“Submit”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messageform"/>
          <p:cNvPicPr/>
          <p:nvPr/>
        </p:nvPicPr>
        <p:blipFill>
          <a:blip r:embed="rId1"/>
          <a:stretch/>
        </p:blipFill>
        <p:spPr>
          <a:xfrm>
            <a:off x="990720" y="4876920"/>
            <a:ext cx="419076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Dealing with the brows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ile called show.php would receive the submitted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could output the message, for 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ead&gt;&lt;title&gt;Show Message&lt;/title&gt;&lt;/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h1&gt;&lt;?php echo $_POST[“txtMsg”]; ?&gt;&lt;/h1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Message"/>
          <p:cNvPicPr/>
          <p:nvPr/>
        </p:nvPicPr>
        <p:blipFill>
          <a:blip r:embed="rId1"/>
          <a:stretch/>
        </p:blipFill>
        <p:spPr>
          <a:xfrm>
            <a:off x="4419720" y="5334120"/>
            <a:ext cx="358128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Dealing with the brows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 elements contain input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input element has an 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 form is posted, the file stated as the action can u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_POST[“inputid”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 form uses the get metho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_GET[“inputid”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sure you set all id attributes for form elements and their cont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Introduction -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pics cov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r side architecture brief 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PHP language top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riables, Constants and Oper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cision making, IF and Switch state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aling with the brows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3 Schools - </a:t>
            </a: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w3schools.com/php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P web site - </a:t>
            </a: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php.net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er Side Programm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s on the web server and can access that server’s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web sites to be browser independent (unless JavaScript is used als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p is embedded within mark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r, you’ll learn how to make it separate from the mark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What is it / does it do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P: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P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pertext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-proces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 language that is interpreted and executed on the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cution is done before delivering content to the brow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ins a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va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brary of functionality that programmers can har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cutes entirely on the server, requiring no specific features from the brow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What is it / does it do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c resources such as regular HTML are simply output to the browser from the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c resources such as PHP scripts are processed on the server prior to being output to the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P has the capability of connecting to many database systems making the entire process transparent to the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1673280" cy="1784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3635280" y="4365720"/>
            <a:ext cx="1727280" cy="1577880"/>
          </a:xfrm>
          <a:prstGeom prst="rect">
            <a:avLst/>
          </a:prstGeom>
          <a:ln w="0">
            <a:noFill/>
          </a:ln>
        </p:spPr>
      </p:pic>
      <p:sp>
        <p:nvSpPr>
          <p:cNvPr id="104" name="Oval 8"/>
          <p:cNvSpPr/>
          <p:nvPr/>
        </p:nvSpPr>
        <p:spPr>
          <a:xfrm>
            <a:off x="7308720" y="4869000"/>
            <a:ext cx="1368720" cy="57600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P Engin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n Scri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2050920" y="4365720"/>
            <a:ext cx="2232000" cy="504720"/>
          </a:xfrm>
          <a:prstGeom prst="rightArrow">
            <a:avLst>
              <a:gd name="adj1" fmla="val 50000"/>
              <a:gd name="adj2" fmla="val 1105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b Page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64000" y="4363920"/>
            <a:ext cx="2232360" cy="505080"/>
          </a:xfrm>
          <a:prstGeom prst="rightArrow">
            <a:avLst>
              <a:gd name="adj1" fmla="val 50000"/>
              <a:gd name="adj2" fmla="val 1104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ad PH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5292720" y="5302080"/>
            <a:ext cx="2160720" cy="503280"/>
          </a:xfrm>
          <a:prstGeom prst="leftArrow">
            <a:avLst>
              <a:gd name="adj1" fmla="val 50000"/>
              <a:gd name="adj2" fmla="val 1073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2050920" y="5280120"/>
            <a:ext cx="2160720" cy="503280"/>
          </a:xfrm>
          <a:prstGeom prst="leftArrow">
            <a:avLst>
              <a:gd name="adj1" fmla="val 50000"/>
              <a:gd name="adj2" fmla="val 1073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ML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P: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P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pertext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-proces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preted and executed by the server on page requ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urns simple output to the brows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 tremendous amount of functionality to program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easily speak to our datab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Language Bas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at the building blocks of the PHP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ntax and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s, constants and ope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ypes and con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acting with the browser application (HTML for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Syntax and 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P is similar to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scripts start with &lt;?php and with with ?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separator: ; (semi-col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e block: { //code here } (brace bracke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te space is generally ignored (not in string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ents are created us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single line quo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* Multiple line block quote 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forced using parenthe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$sum = 5 + 3 * 6; // would equal 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sum = (5 + 3) * 6; // would equal 4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P - Varia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fixed with a $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 values with = oper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$author = “Kris Secor”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eed to define 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ble name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ase sen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uthor and $Author are diffe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5:23:33Z</dcterms:created>
  <dc:creator>Trevor Adams</dc:creator>
  <dc:description/>
  <dc:language>en-US</dc:language>
  <cp:lastModifiedBy>Kristian Secor</cp:lastModifiedBy>
  <dcterms:modified xsi:type="dcterms:W3CDTF">2017-08-23T23:12:49Z</dcterms:modified>
  <cp:revision>67</cp:revision>
  <dc:subject>Web Design &amp; Development</dc:subject>
  <dc:title>Introduction to PHP</dc:title>
</cp:coreProperties>
</file>